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35B20-D7ED-44A5-BE2F-0EE23AF0E0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78E5-D885-40EF-B087-D98B09D62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2FC0F-6B16-4CEE-ACE5-5D097DBB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747F-CB81-4615-A969-0E07BB7624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FFF38-CF93-4FE0-92FF-BEFA5B63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CD6EB-981D-4EAF-BB47-6590D8AD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F32CD-A187-435A-9B42-CEB9CBA5A9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DBDCF-E73B-43A0-947E-F8BF8D4971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207E5-830D-4263-89F8-9E6F99FB5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43019-6275-44D2-82EE-4193888AF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E64-3FE2-40CA-AB71-40A3920A4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1F28-F63C-4759-881C-A9D6B232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FEDA-F590-4EF9-A03A-0DCFFAFCE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6DE2-FDFE-4477-AAAB-74AE4E0E8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716F-BCA8-42A5-8B7B-049C3041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F986-5FA6-4771-9F2D-7F31AF8D4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AE944-2A54-4716-99FF-B8054467D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D274-139E-4DE5-B8C1-B3AE051B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5AA6-17DF-4132-847B-38A1D088E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F47E-5E1A-4C1C-A252-9EDD90BF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5F422-98DD-44E6-B037-CF52EE3F4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5B32D-8986-422D-9367-3AE15CBBF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7E1CB-B9DF-4CA3-8E05-7B46BCCD8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7.4  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view from chapter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286320" cy="223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apping of input values (x-values) onto output values (y-value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are 3 ways to show the same rel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380880" y="4572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2000160" y="4165560"/>
            <a:ext cx="1657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    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1981080" y="487692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"/>
          <p:cNvSpPr/>
          <p:nvPr/>
        </p:nvSpPr>
        <p:spPr>
          <a:xfrm>
            <a:off x="2514600" y="4368960"/>
            <a:ext cx="0" cy="436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0" descr="[image]"/>
          <p:cNvPicPr/>
          <p:nvPr/>
        </p:nvPicPr>
        <p:blipFill>
          <a:blip r:embed="rId1"/>
          <a:stretch/>
        </p:blipFill>
        <p:spPr>
          <a:xfrm>
            <a:off x="3543480" y="4064040"/>
            <a:ext cx="2685960" cy="4775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6" name="Text Box 15"/>
          <p:cNvSpPr/>
          <p:nvPr/>
        </p:nvSpPr>
        <p:spPr>
          <a:xfrm>
            <a:off x="228600" y="5892840"/>
            <a:ext cx="14479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q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 of val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0" y="711000"/>
            <a:ext cx="657216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Inverse rela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just think: switch the x &amp; y-valu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4"/>
          <p:cNvSpPr/>
          <p:nvPr/>
        </p:nvSpPr>
        <p:spPr>
          <a:xfrm>
            <a:off x="0" y="17272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0" y="2286000"/>
                <a:ext cx="1143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0" name="Text Box 10"/>
          <p:cNvSpPr/>
          <p:nvPr/>
        </p:nvSpPr>
        <p:spPr>
          <a:xfrm>
            <a:off x="2000160" y="1625760"/>
            <a:ext cx="16002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      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Arial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0      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     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1"/>
          <p:cNvSpPr/>
          <p:nvPr/>
        </p:nvSpPr>
        <p:spPr>
          <a:xfrm>
            <a:off x="1905120" y="2362320"/>
            <a:ext cx="125712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12"/>
          <p:cNvSpPr/>
          <p:nvPr/>
        </p:nvSpPr>
        <p:spPr>
          <a:xfrm>
            <a:off x="2514600" y="1523880"/>
            <a:ext cx="0" cy="436896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4" descr="[image]"/>
          <p:cNvPicPr/>
          <p:nvPr/>
        </p:nvPicPr>
        <p:blipFill>
          <a:blip r:embed="rId1"/>
          <a:stretch/>
        </p:blipFill>
        <p:spPr>
          <a:xfrm>
            <a:off x="3600360" y="1320840"/>
            <a:ext cx="2928960" cy="52070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9"/>
          <p:cNvSpPr/>
          <p:nvPr/>
        </p:nvSpPr>
        <p:spPr>
          <a:xfrm>
            <a:off x="0" y="3657600"/>
            <a:ext cx="2057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n equation: switch the x &amp; y and solve for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1600200" y="609588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table: switch the x &amp;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1"/>
          <p:cNvSpPr/>
          <p:nvPr/>
        </p:nvSpPr>
        <p:spPr>
          <a:xfrm>
            <a:off x="3943440" y="660384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** the inverse of a graph: the reflection of the original graph in the line y = 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2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5" dur="500"/>
                                        <p:tgtEl>
                                          <p:spTgt spid="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8" dur="5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:  Find an inverse of y = -3x+6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599840"/>
            <a:ext cx="48006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p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-switch x &amp;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-solve for 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 = -3x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x = -3y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x-6 = -3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4"/>
              <p:cNvSpPr txBox="1"/>
              <p:nvPr/>
            </p:nvSpPr>
            <p:spPr>
              <a:xfrm>
                <a:off x="2514600" y="5105520"/>
                <a:ext cx="160020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−</m:t>
                        </m:r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6"/>
              <p:cNvSpPr txBox="1"/>
              <p:nvPr/>
            </p:nvSpPr>
            <p:spPr>
              <a:xfrm>
                <a:off x="2514600" y="6248520"/>
                <a:ext cx="160020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105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verse Fun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480" y="2540160"/>
            <a:ext cx="6172200" cy="21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2 functions, f(x) &amp; g(x), if f(g(x))=x AND g(f(x))=x, then f(x) &amp; g(x) are inverses of each oth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628560" y="5892840"/>
            <a:ext cx="5486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mbol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x)  means “f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x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586728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Verify that f(x)=-3x+6 and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(x)=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+2 are inver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42720" y="1523880"/>
            <a:ext cx="617220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aning find f(g(x)) and g(f(x)).  If they both equal x, then they are inver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228600" y="3048120"/>
            <a:ext cx="262908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(g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3(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+2)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6+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3486240" y="3048120"/>
            <a:ext cx="2971800" cy="25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(f(x)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-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3x+6)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-2+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0" y="6705720"/>
            <a:ext cx="685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* Because f(g(x))=x and g(f(x))=x,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they are invers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9"/>
          <p:cNvSpPr/>
          <p:nvPr/>
        </p:nvSpPr>
        <p:spPr>
          <a:xfrm flipH="1" flipV="1">
            <a:off x="1523880" y="5486040"/>
            <a:ext cx="990720" cy="152388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0"/>
          <p:cNvSpPr/>
          <p:nvPr/>
        </p:nvSpPr>
        <p:spPr>
          <a:xfrm flipV="1">
            <a:off x="4572000" y="5181120"/>
            <a:ext cx="304920" cy="167652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8" dur="5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3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8" dur="500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To find the inverse of a func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53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the f(x) to a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witch the x &amp; y val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lve the new equation for 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** Rememb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fun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have to pass the vertical line tes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0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85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0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95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51492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:  (a) Find the inverse of f(x)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828800" y="1295280"/>
            <a:ext cx="3029040" cy="603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 =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 = y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4"/>
              <p:cNvSpPr txBox="1"/>
              <p:nvPr/>
            </p:nvSpPr>
            <p:spPr>
              <a:xfrm>
                <a:off x="2362320" y="2438280"/>
                <a:ext cx="125712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5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6"/>
              <p:cNvSpPr txBox="1"/>
              <p:nvPr/>
            </p:nvSpPr>
            <p:spPr>
              <a:xfrm>
                <a:off x="1905120" y="2971800"/>
                <a:ext cx="205740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8"/>
              <p:cNvSpPr txBox="1"/>
              <p:nvPr/>
            </p:nvSpPr>
            <p:spPr>
              <a:xfrm>
                <a:off x="1981080" y="4191120"/>
                <a:ext cx="21337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5</m:t>
                        </m:r>
                      </m:deg>
                      <m:e>
                        <m:r>
                          <m:t xml:space="preserve">x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4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1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4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4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4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:  g(x)=2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7"/>
          <p:cNvSpPr/>
          <p:nvPr/>
        </p:nvSpPr>
        <p:spPr>
          <a:xfrm>
            <a:off x="3714840" y="2031840"/>
            <a:ext cx="2971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8"/>
          <p:cNvSpPr/>
          <p:nvPr/>
        </p:nvSpPr>
        <p:spPr>
          <a:xfrm>
            <a:off x="2514600" y="1676520"/>
            <a:ext cx="1905120" cy="13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y=2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x=2y</a:t>
            </a:r>
            <a:r>
              <a:rPr b="0" lang="en-US" sz="3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9"/>
              <p:cNvSpPr txBox="1"/>
              <p:nvPr/>
            </p:nvSpPr>
            <p:spPr>
              <a:xfrm>
                <a:off x="2155680" y="3809880"/>
                <a:ext cx="1197000" cy="177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21"/>
              <p:cNvSpPr txBox="1"/>
              <p:nvPr/>
            </p:nvSpPr>
            <p:spPr>
              <a:xfrm>
                <a:off x="1295280" y="5943600"/>
                <a:ext cx="1086120" cy="12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r>
                      <m:t xml:space="preserve">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23"/>
              <p:cNvSpPr txBox="1"/>
              <p:nvPr/>
            </p:nvSpPr>
            <p:spPr>
              <a:xfrm>
                <a:off x="3886200" y="5943600"/>
                <a:ext cx="1143000" cy="13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ad>
                      <m:deg>
                        <m:r>
                          <m:t xml:space="preserve">3</m:t>
                        </m:r>
                      </m:deg>
                      <m:e>
                        <m:f>
                          <m:num>
                            <m:r>
                              <m:t xml:space="preserve">x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9T19:04:48Z</dcterms:created>
  <dc:creator>julie.geoghagan</dc:creator>
  <dc:description/>
  <dc:language>en-US</dc:language>
  <cp:lastModifiedBy>sraja</cp:lastModifiedBy>
  <dcterms:modified xsi:type="dcterms:W3CDTF">2011-04-05T12:28:12Z</dcterms:modified>
  <cp:revision>13</cp:revision>
  <dc:subject/>
  <dc:title>7.4</dc:title>
</cp:coreProperties>
</file>